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F37-3CA3-41EF-8E31-1A4C5341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F22-2D07-4CF3-AB4E-0F094341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D4A-E7AA-4EFB-A2E1-E575CB4B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ADC-7787-4E54-B968-42FD6B5D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4117-7E78-4598-A47B-74851DB6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0184-6D56-4DD2-990F-1C4356C0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9DB0-AEEB-47D9-896B-13F2762C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7CA8-93BC-4104-A499-2B4CFAA0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58CE-43A8-4DE2-ADD5-49C3A4BC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82F1-D3C1-45C9-A439-9D1FA7BD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D865-6E74-4CBF-AA1F-90BAAE71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307-B877-4E0B-928A-46EBC5F0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91F-2BB1-44C4-BEF3-F61266F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8022-E374-470D-B29D-14071DE6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B4BE-ED32-49D5-9E2E-BBFFF67F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4B75-A022-403C-BC90-81B4A155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E913-EFC3-4F8B-AB3A-026668A0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970-1752-4B84-ADAD-60586CF5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9C5-074F-45E5-B9D4-40000BAE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7FB-A13B-4CF7-8957-54C512A9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588-0BEC-4F46-8AD9-D3CB60BA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71A-C606-41E1-9355-D74B3BCC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66A-28B1-4F97-978A-EA6B0DFC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6A1-951E-4E50-AAC6-FEAC03B2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7BC9-E8F5-4F06-8BB7-B6FA5B56F05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B2D9-DF52-4DCE-AE99-9EC6C3A074C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n castello da visita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’Aquila ed una delle sue meraviglie: il “Castello Cinquecentesc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sentazio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cco come appare al visitatore che si affaccia sui giardini pubblici che portano al castell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9144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 tempo che compare nel mdioevo non ha nulla a che vedere con quelli 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 rot="20345400">
            <a:off x="4876560" y="4190760"/>
            <a:ext cx="4029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5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8:53:56Z</dcterms:created>
  <dc:creator>Pisciella Giovanni</dc:creator>
  <dc:description/>
  <dc:language>en-US</dc:language>
  <cp:lastModifiedBy>Pisciella Giovanni</cp:lastModifiedBy>
  <dcterms:modified xsi:type="dcterms:W3CDTF">2000-12-13T19:09:37Z</dcterms:modified>
  <cp:revision>1</cp:revision>
  <dc:subject/>
  <dc:title>Un castello da visitare</dc:title>
</cp:coreProperties>
</file>