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13C-1600-41BE-A215-640EC97F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527-4261-4C0C-8AF1-75FA5153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F6B-B538-42BE-99BB-24125C6D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17C-D4D0-4CDF-8A30-1809E849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797-6E7F-4DC4-803D-48EA1E05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EAC-B770-44FB-B835-DA7D13C2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ED65-7E0E-4409-AB37-3E542C89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EF08-2946-4AEB-8768-5443E93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8918-032C-4157-AE1D-40680115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9DCC-4A2E-417A-AAE4-5548DF6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6563-B4FD-4DA6-924C-F56532F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4A1-BEE0-40D5-BDDA-8CBEFEA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C82F-B842-4986-8F42-17DCBCD4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4FE-3B8D-409F-B8AA-BF818ED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67E5-920E-407E-8857-BCB96ED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ECF5-1ACD-4487-9C93-DB6D7D42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51B0-2AD9-43C0-A72A-F6A3B9B1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CE5-9675-4616-896E-DA1F4F2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819-B256-470C-A710-B804DD23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857-D21F-4091-A8CA-7F076F5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CCB-9DB2-472B-8596-F7D0411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D94-A347-4EBA-93B3-712C380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B03-3069-4BD2-B97E-FAA6C30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479-15C3-4233-AA9B-3F24FC8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6EDB-3E0A-41B5-88B3-FBE4DF4BC0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D9F3-3DCA-4CB6-926A-0E09BC68066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n castello da visita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’Aquila ed una delle sue meraviglie: il “Castello Cinquecentesc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esenta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co come appare al visitatore che si affaccia sui giardini pubblici che portano al castell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9144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 tempo che compare nel mdioevo non ha nulla a che vedere con quelli c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 rot="20345400">
            <a:off x="4876560" y="4190760"/>
            <a:ext cx="4029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53:56Z</dcterms:created>
  <dc:creator>Pisciella Giovanni</dc:creator>
  <dc:description/>
  <dc:language>en-US</dc:language>
  <cp:lastModifiedBy>Pisciella Giovanni</cp:lastModifiedBy>
  <dcterms:modified xsi:type="dcterms:W3CDTF">2000-12-13T19:09:37Z</dcterms:modified>
  <cp:revision>1</cp:revision>
  <dc:subject/>
  <dc:title>Un castello da visitare</dc:title>
</cp:coreProperties>
</file>